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dust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indent="0">
              <a:spcBef>
                <a:spcPts val="36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1" marL="291600">
              <a:spcBef>
                <a:spcPts val="3600"/>
              </a:spcBef>
              <a:buClr>
                <a:srgbClr val="ffffff"/>
              </a:buClr>
              <a:buFont typeface="Chalkdus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2" marL="582840">
              <a:spcBef>
                <a:spcPts val="3600"/>
              </a:spcBef>
              <a:buClr>
                <a:srgbClr val="ffffff"/>
              </a:buClr>
              <a:buFont typeface="Chalkdus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3" marL="874440">
              <a:spcBef>
                <a:spcPts val="3600"/>
              </a:spcBef>
              <a:buClr>
                <a:srgbClr val="ffffff"/>
              </a:buClr>
              <a:buFont typeface="Chalkdus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4" marL="1165680">
              <a:spcBef>
                <a:spcPts val="3600"/>
              </a:spcBef>
              <a:buClr>
                <a:srgbClr val="ffffff"/>
              </a:buClr>
              <a:buFont typeface="Chalkdus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5" marL="1165680">
              <a:spcBef>
                <a:spcPts val="3600"/>
              </a:spcBef>
              <a:buClr>
                <a:srgbClr val="ffffff"/>
              </a:buClr>
              <a:buFont typeface="Chalkdus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6" marL="1165680">
              <a:spcBef>
                <a:spcPts val="3600"/>
              </a:spcBef>
              <a:buClr>
                <a:srgbClr val="ffffff"/>
              </a:buClr>
              <a:buFont typeface="Chalkdus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dust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36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1" marL="325800" indent="0">
              <a:spcBef>
                <a:spcPts val="36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2" marL="651240">
              <a:spcBef>
                <a:spcPts val="3600"/>
              </a:spcBef>
              <a:buClr>
                <a:srgbClr val="ffffff"/>
              </a:buClr>
              <a:buFont typeface="Chalkduster"/>
              <a:buChar char="•"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3" marL="977400">
              <a:spcBef>
                <a:spcPts val="3600"/>
              </a:spcBef>
              <a:buClr>
                <a:srgbClr val="ffffff"/>
              </a:buClr>
              <a:buFont typeface="Chalkduster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4" marL="1302840">
              <a:spcBef>
                <a:spcPts val="3600"/>
              </a:spcBef>
              <a:buClr>
                <a:srgbClr val="ffffff"/>
              </a:buClr>
              <a:buFont typeface="Chalkduster"/>
              <a:buChar char="•"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5" marL="1302840">
              <a:spcBef>
                <a:spcPts val="901"/>
              </a:spcBef>
              <a:buClr>
                <a:srgbClr val="ffffff"/>
              </a:buClr>
              <a:buFont typeface="Chalkdu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6" marL="1302840">
              <a:spcBef>
                <a:spcPts val="901"/>
              </a:spcBef>
              <a:buClr>
                <a:srgbClr val="ffffff"/>
              </a:buClr>
              <a:buFont typeface="Chalkdu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hyperlink" Target="mailto:tvest@alex.k12.al.us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712960" y="1200240"/>
            <a:ext cx="7574760" cy="5725080"/>
            <a:chOff x="2712960" y="1200240"/>
            <a:chExt cx="7574760" cy="5725080"/>
          </a:xfrm>
        </p:grpSpPr>
        <p:pic>
          <p:nvPicPr>
            <p:cNvPr id="77" name="InsertedImage-small.jpg" descr=""/>
            <p:cNvPicPr/>
            <p:nvPr/>
          </p:nvPicPr>
          <p:blipFill>
            <a:blip r:embed="rId2"/>
            <a:srcRect l="306" t="0" r="306" b="0"/>
            <a:stretch/>
          </p:blipFill>
          <p:spPr>
            <a:xfrm>
              <a:off x="2774880" y="1262160"/>
              <a:ext cx="7450200" cy="560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2712960" y="1200240"/>
              <a:ext cx="7574760" cy="572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duster"/>
              </a:rPr>
              <a:t>Expectations and Policies</a:t>
            </a: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duster"/>
              </a:rPr>
              <a:t>Social Media</a:t>
            </a:r>
            <a:endParaRPr b="0" lang="en-US" sz="5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1765440"/>
            <a:ext cx="10464840" cy="692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My Facebook page is MrsVest's English Page.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44600" indent="-444600"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Reminders about assignments and tests will be posted daily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44600" indent="-444600"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Any inappropriate posts or comments made on my page will result in disciplinary action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transition spd="slow" advTm="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duster"/>
              </a:rPr>
              <a:t>Daily Supplies</a:t>
            </a:r>
            <a:endParaRPr b="0" lang="en-US" sz="5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130480"/>
            <a:ext cx="10464840" cy="655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426600" indent="-426600"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Three-ring binder -- preferably 1-1/2 inch or larger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26600" indent="-426600"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Six dividers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26600" indent="-426600"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Pens -- blue or black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26600" indent="-426600"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Pencils -- for tests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26600" indent="-426600"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Textbook -- covered -- Lost or destroyed books cost $82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26600" indent="-426600">
              <a:spcBef>
                <a:spcPts val="3600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Brain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duster"/>
              </a:rPr>
              <a:t>Notebook Sections</a:t>
            </a:r>
            <a:endParaRPr b="0" lang="en-US" sz="5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198160"/>
            <a:ext cx="10464840" cy="648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Syllabi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44600" indent="-444600"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Literature notes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44600" indent="-444600"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Grammar/vocabulary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44600" indent="-444600"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Returned papers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44600" indent="-444600"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Essays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44600" indent="-444600">
              <a:spcBef>
                <a:spcPts val="3600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Homework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transition spd="slow" advTm="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duster"/>
              </a:rPr>
              <a:t>Fee</a:t>
            </a:r>
            <a:endParaRPr b="0" lang="en-US" sz="5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1833120"/>
            <a:ext cx="10464840" cy="685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$5 is due by the end of the second week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44600" indent="-444600"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This will cover the cost of copies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44600" indent="-444600"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If you do not pay this fee, I will not be able to provide you with copies beginning the third week of the semester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119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duster"/>
              </a:rPr>
              <a:t>Additional Information</a:t>
            </a:r>
            <a:endParaRPr b="0" lang="en-US" sz="5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1353600"/>
            <a:ext cx="10464840" cy="73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328680" indent="-328680"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Email address: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Chalkduster"/>
                <a:hlinkClick r:id="rId3"/>
              </a:rPr>
              <a:t>tvest@alex.k12.al.us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328680" indent="-328680"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School phone: (256) 234-8611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328680" indent="-328680"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Facebook:  MrsVest's English Page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328680" indent="-328680"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Online textbook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halkduster"/>
              </a:rPr>
              <a:t>my.hrw.com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328680" indent="-328680">
              <a:spcBef>
                <a:spcPts val="3600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For English 11: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328680" indent="-328680">
              <a:spcBef>
                <a:spcPts val="3600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User Name -- english1214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328680" indent="-328680">
              <a:spcBef>
                <a:spcPts val="3600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Password -- tvest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328680" indent="-328680">
              <a:spcBef>
                <a:spcPts val="3600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For English 12: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328680" indent="-328680">
              <a:spcBef>
                <a:spcPts val="3600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User Name -- english1123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328680" indent="-328680">
              <a:spcBef>
                <a:spcPts val="3600"/>
              </a:spcBef>
              <a:buSzPct val="100000"/>
              <a:buBlip>
                <a:blip r:embed="rId1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Password -- tvest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transition spd="slow" advTm="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duster"/>
              </a:rPr>
              <a:t>English 11</a:t>
            </a:r>
            <a:endParaRPr b="0" lang="en-US" sz="5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023920"/>
            <a:ext cx="10464840" cy="666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430920" indent="-430920"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We will study the second part of American literature.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30920" indent="-430920"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The literature begins with the 1920s.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30920" indent="-430920"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Most of what we study will be short stories, but we will also read some poetry.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30920" indent="-430920"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We will also read The Great Gatsby and Of Mice and Men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30920" indent="-430920"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You will write about the literature throughout the semester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duster"/>
              </a:rPr>
              <a:t>English 12</a:t>
            </a:r>
            <a:endParaRPr b="0" lang="en-US" sz="5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1925280"/>
            <a:ext cx="10464840" cy="676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We will study a survey of British literature, as well as some British history. 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44600" indent="-444600"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We will read Beowulf, The Canterbury Tales, some Arthurian legends, and Macbeth, as well as some poetry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44600" indent="-444600"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You will write about the literature throughout the semester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transition spd="slow" advTm="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duster"/>
              </a:rPr>
              <a:t>Research</a:t>
            </a:r>
            <a:endParaRPr b="0" lang="en-US" sz="5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9720" y="1955520"/>
            <a:ext cx="1046484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Research is a requirement of English.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44600" indent="-444600"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We will have a research day weekly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44600" indent="-444600"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You MUST stay on top of this process!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44600" indent="-444600"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Students in English 11 will write a position paper. Choose a topic for which you have a strong opinion.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44600" indent="-444600"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Students in English 12 will choose a topic; however, I must approve the topic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transition spd="slow" advTm="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79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duster"/>
              </a:rPr>
              <a:t>You CAN be successful!</a:t>
            </a:r>
            <a:endParaRPr b="0" lang="en-US" sz="5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1574640"/>
            <a:ext cx="10464840" cy="711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I will work with you, but you must do your part as well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44600" indent="-444600"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If you study daily, pay attention, do your best, and turn in all assignments, you will pass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44600" indent="-444600"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You may not pass if you do the bare minimum. Tests are not easy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transition spd="slow" advTm="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duster"/>
              </a:rPr>
              <a:t>General Information</a:t>
            </a:r>
            <a:endParaRPr b="0" lang="en-US" sz="5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9720" y="1955520"/>
            <a:ext cx="1046484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Be prepared for class. Have your book, a pen, paper, and your brain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44600" indent="-444600"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Be a willing participant. You will do better on tests and quizzes, and class will go by much faster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44600" indent="-444600"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Be respectful. We all have our strengths and weaknesses, and we have different ideas and opinions. Have an open mind!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duster"/>
              </a:rPr>
              <a:t>Attendance </a:t>
            </a:r>
            <a:endParaRPr b="0" lang="en-US" sz="5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10464840" cy="676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439920" indent="-439920"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Attendance is vital. Frequent absences will have a negative effect on your grade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39920" indent="-439920"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The responsibility of getting missed assignments is yours.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39920" indent="-439920"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See me before or after class the day you return from an absence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39920" indent="-439920"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All work should be made up within three days.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39920" indent="-439920"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My make-up day is on Tuesdays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transition spd="slow" advTm="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duster"/>
              </a:rPr>
              <a:t>Behavior</a:t>
            </a:r>
            <a:endParaRPr b="0" lang="en-US" sz="5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9720" y="1925280"/>
            <a:ext cx="10464840" cy="676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The tardy bell signals e beginning of class. Be IN YOUR SEAT when it rings.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44600" indent="-444600"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Sleeping is forbidden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44600" indent="-444600"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Electronic devices may be used for educational purposes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44600" indent="-444600"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Playing games, texting, updating Facebook, etc. does not fall into this category.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transition spd="slow" advTm="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duster"/>
              </a:rPr>
              <a:t>Responsibility</a:t>
            </a:r>
            <a:endParaRPr b="0" lang="en-US" sz="5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03184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426600" indent="-426600"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Turn in assignments when they are due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26600" indent="-426600"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Make arrangements to turn work in early or to send it by someone if you are going to be absent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26600" indent="-426600"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Use blue or blank ink for all assignments which are to be turned in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26600" indent="-426600"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Use loose-leaf, college ruled paper for written assignments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26600" indent="-426600"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Clean up any mess you make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